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C45-47F2-4609-8F30-170BDA1F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751-0014-4EE6-86AE-A480B4B3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0DA-F43E-4D2C-9023-454CDEF8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D48-B3A2-4F44-BA03-2A2EA4CA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3947-C98E-4564-BC7F-8DECD5F1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5821-4EBE-494B-AD69-D20DE44B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EEC8-89D1-4BBD-BC16-B308335E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DA88-8BBB-4AA4-B262-332D4661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B58E-B654-48AA-9338-80671B31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A047-E3C2-4E38-991B-861AB269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9753-B09F-48FA-BEFC-49C5DDF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AF5-B4D9-4721-A569-54D4D23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8B92-EBDA-4353-AAFF-4BA0D99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27DE-FDC9-41F5-B46A-59F5B30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3CD9-2674-4012-A17F-4604BA0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D9F2-7051-4725-AB2C-965F8C57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E3DC-97D4-4344-A317-0BB1DEF0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404-CE46-4521-9988-FD1F5894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496-1A4F-486D-89EA-0E868DE5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63D-9756-43F8-997A-E549858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1BD-E81F-47AA-A6BF-27B00ED4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15B-3325-4D7F-8A47-537D16C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3D5-23F4-43DB-B9A1-57A8E94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D67-F788-4153-8853-884B5A1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173B-4113-426B-A4DF-839A2D5F4A6F}" type="slidenum"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9A75-976C-45CF-87C6-162F4F4E22A8}" type="slidenum"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54960" y="24685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辦公室自動化作業—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8862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操作說明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6560" y="3051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帳項異常催告單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程式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四組  彭慈怡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7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5562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MIS 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三組  張志成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257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財務組      陳瀅淑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533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六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員開啟表單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438280"/>
            <a:ext cx="1981080" cy="1143000"/>
          </a:xfrm>
          <a:prstGeom prst="wedgeRoundRectCallout">
            <a:avLst>
              <a:gd name="adj1" fmla="val 10254"/>
              <a:gd name="adj2" fmla="val -10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2362320"/>
            <a:ext cx="1981080" cy="1143000"/>
          </a:xfrm>
          <a:prstGeom prst="wedgeRoundRectCallout">
            <a:avLst>
              <a:gd name="adj1" fmla="val -46712"/>
              <a:gd name="adj2" fmla="val -10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1676520"/>
            <a:ext cx="2209680" cy="1371600"/>
          </a:xfrm>
          <a:prstGeom prst="wedgeRoundRectCallout">
            <a:avLst>
              <a:gd name="adj1" fmla="val -88435"/>
              <a:gd name="adj2" fmla="val -53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退回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退回上一交辦之主管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七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查詢文件實際流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5257800"/>
            <a:ext cx="7010280" cy="685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3124080"/>
            <a:ext cx="1981440" cy="1143000"/>
          </a:xfrm>
          <a:prstGeom prst="wedgeRoundRectCallout">
            <a:avLst>
              <a:gd name="adj1" fmla="val -57532"/>
              <a:gd name="adj2" fmla="val 15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由此可參閱此表單已進行之流程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八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2362320"/>
            <a:ext cx="1981080" cy="761760"/>
          </a:xfrm>
          <a:prstGeom prst="wedgeRoundRectCallout">
            <a:avLst>
              <a:gd name="adj1" fmla="val -46712"/>
              <a:gd name="adj2" fmla="val -133541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自行經辦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九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447920"/>
            <a:ext cx="12952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981080"/>
            <a:ext cx="2362320" cy="1447920"/>
          </a:xfrm>
          <a:prstGeom prst="wedgeRoundRectCallout">
            <a:avLst>
              <a:gd name="adj1" fmla="val -18212"/>
              <a:gd name="adj2" fmla="val -7818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取消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回到原先選擇「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/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」狀態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4572000"/>
            <a:ext cx="129564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3429000"/>
            <a:ext cx="2133360" cy="838080"/>
          </a:xfrm>
          <a:prstGeom prst="wedgeRoundRectCallout">
            <a:avLst>
              <a:gd name="adj1" fmla="val 45907"/>
              <a:gd name="adj2" fmla="val 8882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欲展延之延期日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5562720"/>
            <a:ext cx="5257800" cy="609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4495680"/>
            <a:ext cx="3047760" cy="838440"/>
          </a:xfrm>
          <a:prstGeom prst="wedgeRoundRectCallout">
            <a:avLst>
              <a:gd name="adj1" fmla="val 51564"/>
              <a:gd name="adj2" fmla="val 1041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原因說明及處理對策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完後進行呈核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9320" y="2362320"/>
            <a:ext cx="2361960" cy="1447560"/>
          </a:xfrm>
          <a:prstGeom prst="wedgeRoundRectCallout">
            <a:avLst>
              <a:gd name="adj1" fmla="val -2958"/>
              <a:gd name="adj2" fmla="val -8991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經辦完成之後點選「呈核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文件傳至交辦主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2720" y="3733920"/>
            <a:ext cx="2361960" cy="1447560"/>
          </a:xfrm>
          <a:prstGeom prst="wedgeRoundRectCallout">
            <a:avLst>
              <a:gd name="adj1" fmla="val -65925"/>
              <a:gd name="adj2" fmla="val -4561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呈核」後，本文件傳回原先交辦的主管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2057400"/>
            <a:ext cx="3276360" cy="1752480"/>
          </a:xfrm>
          <a:prstGeom prst="wedgeRoundRectCallout">
            <a:avLst>
              <a:gd name="adj1" fmla="val -47962"/>
              <a:gd name="adj2" fmla="val -67208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位交辦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即部門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點選「選擇核簽流程」以選擇一可用之核簽流程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1447920"/>
            <a:ext cx="10666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2286000"/>
            <a:ext cx="2590920" cy="838080"/>
          </a:xfrm>
          <a:prstGeom prst="wedgeRoundRectCallout">
            <a:avLst>
              <a:gd name="adj1" fmla="val -32722"/>
              <a:gd name="adj2" fmla="val -113259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直接點選「核准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4267080"/>
            <a:ext cx="4114800" cy="2133720"/>
          </a:xfrm>
          <a:prstGeom prst="wedgeRoundRectCallout">
            <a:avLst>
              <a:gd name="adj1" fmla="val 46722"/>
              <a:gd name="adj2" fmla="val -5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核決權限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凡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金額超過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萬元 或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2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天數逾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5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天 或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3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第二次以上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須送</a:t>
            </a:r>
            <a:r>
              <a:rPr b="1" lang="zh-TW" sz="20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主管核決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檢視已結案文件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3657600"/>
            <a:ext cx="2819160" cy="1371600"/>
          </a:xfrm>
          <a:prstGeom prst="wedgeRoundRectCallout">
            <a:avLst>
              <a:gd name="adj1" fmla="val -84120"/>
              <a:gd name="adj2" fmla="val -4004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由「部門別記錄統計」中，查得相關已結案之案件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催辦管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1337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二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三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四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五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總管理處總經理室專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657600" y="1143000"/>
          <a:ext cx="46483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4648320" cy="863640"/>
                  </a:xfrm>
                  <a:prstGeom prst="rect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3733920" y="1523880"/>
            <a:ext cx="28954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各公司專人列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</a:t>
            </a:r>
            <a:r>
              <a:rPr b="0" lang="en-US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Question &amp; Answ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1676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程式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四組  吳正斌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7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1371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MIS 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三組  張志成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066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財務組      陳瀅淑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533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電話</a:t>
            </a:r>
            <a:r>
              <a:rPr b="1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2514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留言</a:t>
            </a:r>
            <a:r>
              <a:rPr b="1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62120" y="3505320"/>
          <a:ext cx="198108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05320"/>
                    <a:ext cx="198108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5480" y="25146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191120" y="2895480"/>
            <a:ext cx="4267080" cy="3505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315200" y="243828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19051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b0f0f"/>
                </a:solidFill>
                <a:latin typeface="Tahoma"/>
                <a:ea typeface="新細明體"/>
              </a:rPr>
              <a:t>直接填寫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19320" y="2666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報告完畢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1523880"/>
          <a:ext cx="8686800" cy="3976560"/>
        </p:xfrm>
        <a:graphic>
          <a:graphicData uri="http://schemas.openxmlformats.org/drawingml/2006/table">
            <a:tbl>
              <a:tblPr/>
              <a:tblGrid>
                <a:gridCol w="2481120"/>
                <a:gridCol w="1573200"/>
                <a:gridCol w="463248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郵件種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對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頻率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文件處理逾期催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延遲交辦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交辦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核簽延遲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031760" y="6858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逾期催辦通知說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流程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76520"/>
            <a:ext cx="914400" cy="76176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43828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97180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666880"/>
            <a:ext cx="685800" cy="60984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not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200" y="26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標楷體"/>
              </a:rPr>
              <a:t>每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83480" y="5726160"/>
            <a:ext cx="0" cy="488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13400" y="5446800"/>
            <a:ext cx="490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64440" y="5235480"/>
            <a:ext cx="979560" cy="622440"/>
          </a:xfrm>
          <a:prstGeom prst="flowChartOnlineStorag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結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346560"/>
            <a:ext cx="111924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部門主管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43520" y="3346560"/>
            <a:ext cx="112068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43320" y="3695760"/>
            <a:ext cx="700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14960" y="334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交辦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3384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823920" y="432576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82428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07840" y="4002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呈核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63760" y="4535640"/>
            <a:ext cx="630360" cy="63000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94120" y="4886280"/>
            <a:ext cx="1749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643720" y="4046040"/>
            <a:ext cx="0" cy="839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44920" y="4046400"/>
            <a:ext cx="0" cy="489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4920" y="5165640"/>
            <a:ext cx="0" cy="281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44920" y="544680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36400" y="4576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54480" y="5095800"/>
            <a:ext cx="132876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其他核簽主管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34440" y="5446800"/>
            <a:ext cx="5601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716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253280" y="3766680"/>
            <a:ext cx="0" cy="139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063840" y="3767040"/>
            <a:ext cx="11890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41480" y="4325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04080" y="516564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34280" y="6005520"/>
            <a:ext cx="839880" cy="70020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1523880"/>
            <a:ext cx="112068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2666880"/>
            <a:ext cx="114300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無經辦人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43200" y="2286000"/>
            <a:ext cx="4143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920" y="3276720"/>
            <a:ext cx="5331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688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06400" y="2286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5800" y="3352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無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43828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2286000"/>
            <a:ext cx="3808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3048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系統發送信件至部門主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200400"/>
            <a:ext cx="6248520" cy="30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200400"/>
            <a:ext cx="2590560" cy="1676520"/>
          </a:xfrm>
          <a:prstGeom prst="wedgeRoundRectCallout">
            <a:avLst>
              <a:gd name="adj1" fmla="val -89768"/>
              <a:gd name="adj2" fmla="val -4024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每日出表，受文部門的部門主管於信箱中收到系統所發送之通知信件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開啟文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2133720"/>
            <a:ext cx="1981080" cy="1143000"/>
          </a:xfrm>
          <a:prstGeom prst="wedgeRoundRectCallout">
            <a:avLst>
              <a:gd name="adj1" fmla="val -5129"/>
              <a:gd name="adj2" fmla="val -816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1447920"/>
            <a:ext cx="99036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2057400"/>
            <a:ext cx="1981080" cy="1143000"/>
          </a:xfrm>
          <a:prstGeom prst="wedgeRoundRectCallout">
            <a:avLst>
              <a:gd name="adj1" fmla="val -50560"/>
              <a:gd name="adj2" fmla="val -9500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838080"/>
            <a:ext cx="1981080" cy="609840"/>
          </a:xfrm>
          <a:prstGeom prst="wedgeRoundRectCallout">
            <a:avLst>
              <a:gd name="adj1" fmla="val -72754"/>
              <a:gd name="adj2" fmla="val 7552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交辦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2362320"/>
            <a:ext cx="1981440" cy="838080"/>
          </a:xfrm>
          <a:prstGeom prst="wedgeRoundRectCallout">
            <a:avLst>
              <a:gd name="adj1" fmla="val -53527"/>
              <a:gd name="adj2" fmla="val 10303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系統出現提示訊息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交辦選單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2286000"/>
            <a:ext cx="160020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2057400"/>
            <a:ext cx="2210040" cy="1066680"/>
          </a:xfrm>
          <a:prstGeom prst="wedgeRoundRectCallout">
            <a:avLst>
              <a:gd name="adj1" fmla="val -75217"/>
              <a:gd name="adj2" fmla="val -1116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「公司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+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部門代號」後，按下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tab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鍵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3657600"/>
            <a:ext cx="1981440" cy="1752480"/>
          </a:xfrm>
          <a:prstGeom prst="wedgeRoundRectCallout">
            <a:avLst>
              <a:gd name="adj1" fmla="val -81171"/>
              <a:gd name="adj2" fmla="val -5081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下方會出現該部門中所有人員，選定欲交辦之對象後按下「確定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03:09:02Z</dcterms:created>
  <dc:creator>Luke</dc:creator>
  <dc:description/>
  <dc:language>en-US</dc:language>
  <cp:lastModifiedBy>f000000187</cp:lastModifiedBy>
  <dcterms:modified xsi:type="dcterms:W3CDTF">2009-02-03T00:56:56Z</dcterms:modified>
  <cp:revision>109</cp:revision>
  <dc:subject/>
  <dc:title>PowerPoint 簡報</dc:title>
</cp:coreProperties>
</file>