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395-E69E-4ACA-AFE7-213A4C23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1C8-833E-4616-8B47-B343C2C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B20-BF5F-4209-BF83-FE7A1723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7FE-D627-456D-B2EB-D4783967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4229-18F6-499C-8B32-7275B134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8012-C7E5-4D82-9C0B-562B509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48D-AD1E-4EF2-BFF3-DDA0067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C8B7-B06D-4037-B72A-0BA4599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9A8B-B79D-480C-AC07-5375C5D7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1AE-0E0B-4E47-9390-59DD6670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6911-8590-4F75-9804-D3904E8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640-AA3A-4104-949C-79C5902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9D5E-7408-4104-ACB6-0522F79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7B4E-E698-4DAD-96B4-A97E3412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8CA4-D8E3-433E-B1F7-3A29532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E9B7-2002-4BA3-82DC-822BE5E8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662-823C-4DD4-867C-076DDBE5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C08-8604-4692-A2B4-AF01A54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F9C-E9C4-4E2D-9BDA-2D694F6F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5A9-4ABC-4420-AFBE-3E331D71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46B-4C11-48B9-97BE-0078366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433-B59A-4D7C-B7F4-3C345FA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E36-63BC-4690-A68F-04F233CA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FF1-A2F6-49C8-9B2E-873E565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F790-CD99-43C6-8362-0C606858F5FE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1E3-C555-4922-BD8E-6E3A882F164E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0" descr="Lotus Notes 中文版介面顯示經辦人員開啟帳項異常催告單的畫面。畫面上方標註「交辦」與「自行經辦」與「退回主管」按鈕，並以標籤說明其功能：「交辦」為將此文件交辦至指定之人員；「自行經辦」為將文件的經辦人設為自己；「退回主管」為將此文件退回上一交辦之主管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1" descr="Lotus Notes 中文版介面顯示經辦人員查詢文件實際流程的畫面。下方此表單已進行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1" descr="Lotus Notes 中文版介面顯示交辦人員處理帳項異常催告單的操作畫面。使用者可點選左上角的「自行經辦」按鈕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43280" y="76320"/>
            <a:ext cx="5919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Lotus Notes 中文版介面顯示交辦人員處理帳項異常催告單的操作畫面。使用者可點選左上角的「取消自行經辦」按鈕，可回到原先選擇「交辦/自行經辦」狀態，中間的「延期日」按鈕，可輸入欲展延的延期日，下方的「原因說明及處理對策」按鈕，請輸入原因說明展延緣由及處理對策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819520" y="76320"/>
            <a:ext cx="59436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Lotus Notes 中文版介面顯示經辦人員完成帳項異常催告單呈核的操作畫面。系統跳出提示訊息視窗，經辦完成之後點選「呈核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Lotus Notes 中文版介面顯示經辦人員完成帳項異常催告單呈核的操作畫面。點選「呈核」後，系統跳出提示訊息視窗，憑單已傳送至下位核簽者，之後點選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Lotus Notes 中文版介面顯示經辦人員帳項異常催告單呈核的操作畫面。第一位交辦主管即部門主管可點選「選擇核簽流程」，選擇可用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219320" y="2057400"/>
            <a:ext cx="3276360" cy="122724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Lotus Notes 中文版介面顯示經辦人員帳項異常催告單呈核的操作畫面。選擇交辦主管完成後，點選「核准」將表單呈核給主管核簽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76720" y="76320"/>
            <a:ext cx="5486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Lotus Notes 中文版介面顯示經辦人員帳項異常催告單呈核的操作畫面。核決權限凡金額超過10萬元或展延天數逾15天或展延第二次以上，須送經理級主管核決，系統跳出提示訊息「核簽完畢，憑單已傳送至經辦」視窗，表示帳項異常催告單已核簽完畢，按下「確定」即完成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otus Notes 中文版介面檢視已結案帳項異常催告單的操作畫面。可由左方「部門別記錄統計」中，查詢到已結案之案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788000" y="76320"/>
            <a:ext cx="397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13" descr="Lotus Notes 中文版系統介面畫面，顯示帳項異常催告單設定，包括催告層級通知對象、結案條件與說明，供財務或管理部門追蹤處理帳款。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「Lotus Notes 中文版系統介面畫面，顯示帳項異常催告單」催辦管制，包括收文文號、經辦部門、催告次數，催告次數說明如下方文字說明。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Oval 5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23880"/>
          <a:ext cx="8686800" cy="39783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33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120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121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30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9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95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100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2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Line 105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10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AutoShape 111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Line 112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Line 113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14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16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18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AutoShape 122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Line 125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126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27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AutoShape 128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AutoShape 131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133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AutoShape 134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35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37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39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AutoShape 140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Line 144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8" descr="Lotus Notes 中文版系統介面畫面，系統每日出表，受文部門的部門主管於信箱中收到系統所發送之通知信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5"/>
          <p:cNvSpPr/>
          <p:nvPr/>
        </p:nvSpPr>
        <p:spPr>
          <a:xfrm>
            <a:off x="3924360" y="76320"/>
            <a:ext cx="4838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Lotus Notes 中文版介面顯示部門主管開啟帳項異常催告單的畫面。畫面上方標註「交辦」與「自行經辦」按鈕，並以標籤說明其功能：「交辦」為將文件交辦至指定人員；「自行經辦」為將文件的經辦人設為自己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5760" y="341280"/>
            <a:ext cx="8232480" cy="6175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Lotus Notes 中文版介面顯示部門主管交辦帳項異常催告單的操作畫面。使用者點選左上角的「交辦」按鈕後，系統跳出提示訊息視窗，詢問「是否確定要交辦？」並提供「是(Y)」與「否(N)」兩個按鈕供選擇。表單中顯示借款人資訊、會計科目、立案金額與逾期狀況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Lotus Notes 中文版介面顯示部門主管交辦帳項異常催告單的操作畫面。系統跳出提示訊息視窗，「請選擇經辦人員」視窗，選定欲交辦之對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Lotus Notes 中文版介面顯示部門主管交辦帳項異常催告單的操作畫面。系統跳出提示訊息視窗，「郵件傳送訊息」視窗，帳項異常催告單已交辦給下位人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UF230Z/林婉蓁</cp:lastModifiedBy>
  <dcterms:modified xsi:type="dcterms:W3CDTF">2025-07-04T02:08:19Z</dcterms:modified>
  <cp:revision>116</cp:revision>
  <dc:subject/>
  <dc:title>PowerPoint 簡報</dc:title>
</cp:coreProperties>
</file>