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48F-F5DF-4E9F-881D-B502C5F6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66C-1E2B-4D35-9ED2-DE05F492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196-B28D-43E2-ACA6-A41B301B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0E9-B86C-460D-BD0F-34834646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04C0-AD16-42EF-8A01-8E9DAD15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9F8A-F098-47BE-B609-22FAECFA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8761-4449-429E-B3DC-F5FE34D6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B10F-0D7A-48E3-8577-5EAEB29F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C550-13EC-4575-BDB9-02E321AD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BFC4-28F0-448E-8EB7-3911C906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5E5A-F2E3-4D31-ABAC-3D496E19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BD6-3427-41BB-A9B3-3C92CA7F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9619-9149-475E-814F-6BF938C9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18DF-3A0D-4E71-A284-95B6EE37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CEE5-C6D8-42B5-A7E9-22E49E64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6EE2-52AD-443E-AAA8-95F9020D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7394-042D-4234-AF13-BCFC39A7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0A2-DE0A-4B02-8EBD-5C420F39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F9A-BAE3-47E8-A603-B5016B0F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877-4C98-4BEF-B5B2-9A547915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EBF-2B92-48BA-8B36-5319B740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6EB-5455-411C-8322-B70ACCDF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806-C1AC-4588-8975-B8B665A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FA2-D034-4D09-9D9D-6DFDEDAA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429A-5B4C-436C-8CF5-CEA5501F61E4}" type="slidenum"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1D26-54D7-4AC2-9F66-F88067D5822F}" type="slidenum"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254960" y="246852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辦公室自動化作業—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156360" y="38862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操作說明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546560" y="3051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帳項異常催告單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809880" y="5867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程式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四組  彭慈怡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7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809880" y="5562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MIS 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三組  張志成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6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809880" y="5257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制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財務組      陳瀅淑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533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0" descr="Lotus Notes 中文版介面顯示經辦人員開啟帳項異常催告單的畫面。畫面上方標註「交辦」與「自行經辦」與「退回主管」按鈕，並以標籤說明其功能：「交辦」為將此文件交辦至指定之人員；「自行經辦」為將文件的經辦人設為自己；「退回主管」為將此文件退回上一交辦之主管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六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員開啟表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0" y="2438280"/>
            <a:ext cx="1981080" cy="1143000"/>
          </a:xfrm>
          <a:prstGeom prst="wedgeRoundRectCallout">
            <a:avLst>
              <a:gd name="adj1" fmla="val 10254"/>
              <a:gd name="adj2" fmla="val -10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2133720" y="2362320"/>
            <a:ext cx="1981080" cy="1143000"/>
          </a:xfrm>
          <a:prstGeom prst="wedgeRoundRectCallout">
            <a:avLst>
              <a:gd name="adj1" fmla="val -46712"/>
              <a:gd name="adj2" fmla="val -10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43828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4191120" y="1676520"/>
            <a:ext cx="2209680" cy="1371600"/>
          </a:xfrm>
          <a:prstGeom prst="wedgeRoundRectCallout">
            <a:avLst>
              <a:gd name="adj1" fmla="val -88435"/>
              <a:gd name="adj2" fmla="val -5312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退回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退回上一交辦之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1" descr="Lotus Notes 中文版介面顯示經辦人員查詢文件實際流程的畫面。下方此表單已進行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七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查詢文件實際流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990720" y="5257800"/>
            <a:ext cx="7010280" cy="685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5410080" y="3124080"/>
            <a:ext cx="1981440" cy="1143000"/>
          </a:xfrm>
          <a:prstGeom prst="wedgeRoundRectCallout">
            <a:avLst>
              <a:gd name="adj1" fmla="val -57532"/>
              <a:gd name="adj2" fmla="val 15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由此可參閱此表單已進行之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1" descr="Lotus Notes 中文版介面顯示交辦人員處理帳項異常催告單的操作畫面。使用者可點選左上角的「自行經辦」按鈕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2843280" y="76320"/>
            <a:ext cx="5919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八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2133720" y="2362320"/>
            <a:ext cx="1981080" cy="761760"/>
          </a:xfrm>
          <a:prstGeom prst="wedgeRoundRectCallout">
            <a:avLst>
              <a:gd name="adj1" fmla="val -46712"/>
              <a:gd name="adj2" fmla="val -133541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自行經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1" descr="Lotus Notes 中文版介面顯示交辦人員處理帳項異常催告單的操作畫面。使用者可點選左上角的「取消自行經辦」按鈕，可回到原先選擇「交辦/自行經辦」狀態，中間的「延期日」按鈕，可輸入欲展延的延期日，下方的「原因說明及處理對策」按鈕，請輸入原因說明展延緣由及處理對策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2819520" y="76320"/>
            <a:ext cx="59436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九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685800" y="1447920"/>
            <a:ext cx="12952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914400" y="1981080"/>
            <a:ext cx="2362320" cy="1447920"/>
          </a:xfrm>
          <a:prstGeom prst="wedgeRoundRectCallout">
            <a:avLst>
              <a:gd name="adj1" fmla="val -18212"/>
              <a:gd name="adj2" fmla="val -7818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取消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回到原先選擇「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/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」狀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6553080" y="4572000"/>
            <a:ext cx="129564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5105520" y="3429000"/>
            <a:ext cx="2133360" cy="838080"/>
          </a:xfrm>
          <a:prstGeom prst="wedgeRoundRectCallout">
            <a:avLst>
              <a:gd name="adj1" fmla="val 45907"/>
              <a:gd name="adj2" fmla="val 8882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欲展延之延期日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2819520" y="5562720"/>
            <a:ext cx="5257800" cy="609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1219320" y="4495680"/>
            <a:ext cx="3047760" cy="838440"/>
          </a:xfrm>
          <a:prstGeom prst="wedgeRoundRectCallout">
            <a:avLst>
              <a:gd name="adj1" fmla="val 51564"/>
              <a:gd name="adj2" fmla="val 1041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原因說明及處理對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Lotus Notes 中文版介面顯示經辦人員完成帳項異常催告單呈核的操作畫面。系統跳出提示訊息視窗，經辦完成之後點選「呈核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完後進行呈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1219320" y="2362320"/>
            <a:ext cx="2361960" cy="1447560"/>
          </a:xfrm>
          <a:prstGeom prst="wedgeRoundRectCallout">
            <a:avLst>
              <a:gd name="adj1" fmla="val -2958"/>
              <a:gd name="adj2" fmla="val -8991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經辦完成之後點選「呈核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Lotus Notes 中文版介面顯示經辦人員完成帳項異常催告單呈核的操作畫面。點選「呈核」後，系統跳出提示訊息視窗，憑單已傳送至下位核簽者，之後點選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文件傳至交辦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5562720" y="3733920"/>
            <a:ext cx="2361960" cy="1447560"/>
          </a:xfrm>
          <a:prstGeom prst="wedgeRoundRectCallout">
            <a:avLst>
              <a:gd name="adj1" fmla="val -65925"/>
              <a:gd name="adj2" fmla="val -4561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呈核」後，本文件傳回原先交辦的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Lotus Notes 中文版介面顯示經辦人員帳項異常催告單呈核的操作畫面。第一位交辦主管即部門主管可點選「選擇核簽流程」，選擇可用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219320" y="2057400"/>
            <a:ext cx="3276360" cy="1227240"/>
          </a:xfrm>
          <a:prstGeom prst="wedgeRoundRectCallout">
            <a:avLst>
              <a:gd name="adj1" fmla="val -47962"/>
              <a:gd name="adj2" fmla="val -67208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位交辦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(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即部門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)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點選「選擇核簽流程」以選擇一可用之核簽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14400" y="1447920"/>
            <a:ext cx="10666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Lotus Notes 中文版介面顯示經辦人員帳項異常催告單呈核的操作畫面。選擇交辦主管完成後，點選「核准」將表單呈核給主管核簽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3276720" y="76320"/>
            <a:ext cx="54864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828800" y="2286000"/>
            <a:ext cx="2590920" cy="838080"/>
          </a:xfrm>
          <a:prstGeom prst="wedgeRoundRectCallout">
            <a:avLst>
              <a:gd name="adj1" fmla="val -32722"/>
              <a:gd name="adj2" fmla="val -113259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直接點選「核准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7" descr="Lotus Notes 中文版介面顯示經辦人員帳項異常催告單呈核的操作畫面。核決權限凡金額超過10萬元或展延天數逾15天或展延第二次以上，須送經理級主管核決，系統跳出提示訊息「核簽完畢，憑單已傳送至經辦」視窗，表示帳項異常催告單已核簽完畢，按下「確定」即完成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762120" y="4267080"/>
            <a:ext cx="4114800" cy="2133720"/>
          </a:xfrm>
          <a:prstGeom prst="wedgeRoundRectCallout">
            <a:avLst>
              <a:gd name="adj1" fmla="val 46722"/>
              <a:gd name="adj2" fmla="val -5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核決權限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金額超過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0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萬元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2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天數逾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5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天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3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第二次以上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須送</a:t>
            </a:r>
            <a:r>
              <a:rPr b="1" lang="zh-TW" sz="20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主管核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Lotus Notes 中文版介面檢視已結案帳項異常催告單的操作畫面。可由左方「部門別記錄統計」中，查詢到已結案之案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788000" y="76320"/>
            <a:ext cx="397512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檢視已結案文件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3276720" y="3657600"/>
            <a:ext cx="2819160" cy="1371600"/>
          </a:xfrm>
          <a:prstGeom prst="wedgeRoundRectCallout">
            <a:avLst>
              <a:gd name="adj1" fmla="val -84120"/>
              <a:gd name="adj2" fmla="val -4004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由「部門別記錄統計」中，查得相關已結案之案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Picture 13" descr="Lotus Notes 中文版系統介面畫面，顯示帳項異常催告單設定，包括催告層級通知對象、結案條件與說明，供財務或管理部門追蹤處理帳款。"/>
          <p:cNvPicPr/>
          <p:nvPr/>
        </p:nvPicPr>
        <p:blipFill>
          <a:blip r:embed="rId1"/>
          <a:stretch/>
        </p:blipFill>
        <p:spPr>
          <a:xfrm>
            <a:off x="609480" y="68580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催辦管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1337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二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三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四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五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總管理處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3657600" y="1143000"/>
          <a:ext cx="46483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「Lotus Notes 中文版系統介面畫面，顯示帳項異常催告單」催辦管制，包括收文文號、經辦部門、催告次數，催告次數說明如下方文字說明。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143000"/>
                    <a:ext cx="4648320" cy="863640"/>
                  </a:xfrm>
                  <a:prstGeom prst="rect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Oval 5"/>
          <p:cNvSpPr/>
          <p:nvPr/>
        </p:nvSpPr>
        <p:spPr>
          <a:xfrm>
            <a:off x="3733920" y="1523880"/>
            <a:ext cx="289548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219320" y="2666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報告完畢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23880"/>
          <a:ext cx="8686800" cy="3978360"/>
        </p:xfrm>
        <a:graphic>
          <a:graphicData uri="http://schemas.openxmlformats.org/drawingml/2006/table">
            <a:tbl>
              <a:tblPr/>
              <a:tblGrid>
                <a:gridCol w="2481120"/>
                <a:gridCol w="1573200"/>
                <a:gridCol w="4632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郵件種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對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頻率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文件處理逾期催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延遲交辦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交辦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核簽延遲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33"/>
          <p:cNvSpPr/>
          <p:nvPr/>
        </p:nvSpPr>
        <p:spPr>
          <a:xfrm>
            <a:off x="1031760" y="6858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4.</a:t>
            </a: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逾期催辦通知說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流程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AutoShape 84"/>
          <p:cNvSpPr/>
          <p:nvPr/>
        </p:nvSpPr>
        <p:spPr>
          <a:xfrm>
            <a:off x="380880" y="1676520"/>
            <a:ext cx="914400" cy="76176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87"/>
          <p:cNvSpPr/>
          <p:nvPr/>
        </p:nvSpPr>
        <p:spPr>
          <a:xfrm>
            <a:off x="762120" y="243828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88"/>
          <p:cNvSpPr/>
          <p:nvPr/>
        </p:nvSpPr>
        <p:spPr>
          <a:xfrm>
            <a:off x="762120" y="2971800"/>
            <a:ext cx="12189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AutoShape 120"/>
          <p:cNvSpPr/>
          <p:nvPr/>
        </p:nvSpPr>
        <p:spPr>
          <a:xfrm>
            <a:off x="990720" y="2666880"/>
            <a:ext cx="685800" cy="60984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no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121"/>
          <p:cNvSpPr/>
          <p:nvPr/>
        </p:nvSpPr>
        <p:spPr>
          <a:xfrm>
            <a:off x="169200" y="2666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標楷體"/>
              </a:rPr>
              <a:t>每日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130"/>
          <p:cNvSpPr/>
          <p:nvPr/>
        </p:nvSpPr>
        <p:spPr>
          <a:xfrm>
            <a:off x="8583480" y="5726160"/>
            <a:ext cx="0" cy="488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Line 129"/>
          <p:cNvSpPr/>
          <p:nvPr/>
        </p:nvSpPr>
        <p:spPr>
          <a:xfrm>
            <a:off x="6413400" y="5446800"/>
            <a:ext cx="4906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AutoShape 95"/>
          <p:cNvSpPr/>
          <p:nvPr/>
        </p:nvSpPr>
        <p:spPr>
          <a:xfrm>
            <a:off x="8164440" y="5235480"/>
            <a:ext cx="979560" cy="622440"/>
          </a:xfrm>
          <a:prstGeom prst="flowChartOnlineStorag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結案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AutoShape 100"/>
          <p:cNvSpPr/>
          <p:nvPr/>
        </p:nvSpPr>
        <p:spPr>
          <a:xfrm>
            <a:off x="3124080" y="3346560"/>
            <a:ext cx="111924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部門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AutoShape 102"/>
          <p:cNvSpPr/>
          <p:nvPr/>
        </p:nvSpPr>
        <p:spPr>
          <a:xfrm>
            <a:off x="4943520" y="3346560"/>
            <a:ext cx="112068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Line 105"/>
          <p:cNvSpPr/>
          <p:nvPr/>
        </p:nvSpPr>
        <p:spPr>
          <a:xfrm>
            <a:off x="4243320" y="3695760"/>
            <a:ext cx="700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106"/>
          <p:cNvSpPr/>
          <p:nvPr/>
        </p:nvSpPr>
        <p:spPr>
          <a:xfrm>
            <a:off x="4314960" y="334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交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Line 107"/>
          <p:cNvSpPr/>
          <p:nvPr/>
        </p:nvSpPr>
        <p:spPr>
          <a:xfrm>
            <a:off x="543384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Line 108"/>
          <p:cNvSpPr/>
          <p:nvPr/>
        </p:nvSpPr>
        <p:spPr>
          <a:xfrm flipH="1">
            <a:off x="3823920" y="432576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Line 109"/>
          <p:cNvSpPr/>
          <p:nvPr/>
        </p:nvSpPr>
        <p:spPr>
          <a:xfrm flipV="1">
            <a:off x="382428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Text Box 110"/>
          <p:cNvSpPr/>
          <p:nvPr/>
        </p:nvSpPr>
        <p:spPr>
          <a:xfrm>
            <a:off x="4407840" y="4002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呈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AutoShape 111"/>
          <p:cNvSpPr/>
          <p:nvPr/>
        </p:nvSpPr>
        <p:spPr>
          <a:xfrm>
            <a:off x="3263760" y="4535640"/>
            <a:ext cx="630360" cy="63000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Line 112"/>
          <p:cNvSpPr/>
          <p:nvPr/>
        </p:nvSpPr>
        <p:spPr>
          <a:xfrm>
            <a:off x="3894120" y="4886280"/>
            <a:ext cx="1749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Line 113"/>
          <p:cNvSpPr/>
          <p:nvPr/>
        </p:nvSpPr>
        <p:spPr>
          <a:xfrm flipV="1">
            <a:off x="5643720" y="4046040"/>
            <a:ext cx="0" cy="839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Line 114"/>
          <p:cNvSpPr/>
          <p:nvPr/>
        </p:nvSpPr>
        <p:spPr>
          <a:xfrm>
            <a:off x="3544920" y="4046400"/>
            <a:ext cx="0" cy="489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Line 115"/>
          <p:cNvSpPr/>
          <p:nvPr/>
        </p:nvSpPr>
        <p:spPr>
          <a:xfrm>
            <a:off x="3544920" y="5165640"/>
            <a:ext cx="0" cy="281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116"/>
          <p:cNvSpPr/>
          <p:nvPr/>
        </p:nvSpPr>
        <p:spPr>
          <a:xfrm>
            <a:off x="3544920" y="544680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118"/>
          <p:cNvSpPr/>
          <p:nvPr/>
        </p:nvSpPr>
        <p:spPr>
          <a:xfrm>
            <a:off x="5036400" y="4576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AutoShape 122"/>
          <p:cNvSpPr/>
          <p:nvPr/>
        </p:nvSpPr>
        <p:spPr>
          <a:xfrm>
            <a:off x="5154480" y="5095800"/>
            <a:ext cx="132876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其他核簽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Line 123"/>
          <p:cNvSpPr/>
          <p:nvPr/>
        </p:nvSpPr>
        <p:spPr>
          <a:xfrm>
            <a:off x="7534440" y="5446800"/>
            <a:ext cx="5601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124"/>
          <p:cNvSpPr/>
          <p:nvPr/>
        </p:nvSpPr>
        <p:spPr>
          <a:xfrm>
            <a:off x="769716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Line 125"/>
          <p:cNvSpPr/>
          <p:nvPr/>
        </p:nvSpPr>
        <p:spPr>
          <a:xfrm flipV="1">
            <a:off x="7253280" y="3766680"/>
            <a:ext cx="0" cy="139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Line 126"/>
          <p:cNvSpPr/>
          <p:nvPr/>
        </p:nvSpPr>
        <p:spPr>
          <a:xfrm flipH="1">
            <a:off x="6063840" y="3767040"/>
            <a:ext cx="11890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Text Box 127"/>
          <p:cNvSpPr/>
          <p:nvPr/>
        </p:nvSpPr>
        <p:spPr>
          <a:xfrm>
            <a:off x="7341480" y="4325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AutoShape 128"/>
          <p:cNvSpPr/>
          <p:nvPr/>
        </p:nvSpPr>
        <p:spPr>
          <a:xfrm>
            <a:off x="6904080" y="516564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AutoShape 131"/>
          <p:cNvSpPr/>
          <p:nvPr/>
        </p:nvSpPr>
        <p:spPr>
          <a:xfrm>
            <a:off x="8234280" y="6005520"/>
            <a:ext cx="839880" cy="70020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AutoShape 133"/>
          <p:cNvSpPr/>
          <p:nvPr/>
        </p:nvSpPr>
        <p:spPr>
          <a:xfrm>
            <a:off x="2971800" y="1523880"/>
            <a:ext cx="112068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AutoShape 134"/>
          <p:cNvSpPr/>
          <p:nvPr/>
        </p:nvSpPr>
        <p:spPr>
          <a:xfrm>
            <a:off x="1981080" y="2666880"/>
            <a:ext cx="114300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無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Line 135"/>
          <p:cNvSpPr/>
          <p:nvPr/>
        </p:nvSpPr>
        <p:spPr>
          <a:xfrm flipV="1">
            <a:off x="2743200" y="2286000"/>
            <a:ext cx="4143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2590920" y="3276720"/>
            <a:ext cx="5331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Text Box 137"/>
          <p:cNvSpPr/>
          <p:nvPr/>
        </p:nvSpPr>
        <p:spPr>
          <a:xfrm>
            <a:off x="419688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138"/>
          <p:cNvSpPr/>
          <p:nvPr/>
        </p:nvSpPr>
        <p:spPr>
          <a:xfrm>
            <a:off x="2606400" y="2286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Text Box 139"/>
          <p:cNvSpPr/>
          <p:nvPr/>
        </p:nvSpPr>
        <p:spPr>
          <a:xfrm>
            <a:off x="2485800" y="3352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AutoShape 140"/>
          <p:cNvSpPr/>
          <p:nvPr/>
        </p:nvSpPr>
        <p:spPr>
          <a:xfrm>
            <a:off x="3886200" y="243828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733920" y="2286000"/>
            <a:ext cx="38088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Line 144"/>
          <p:cNvSpPr/>
          <p:nvPr/>
        </p:nvSpPr>
        <p:spPr>
          <a:xfrm>
            <a:off x="4191120" y="3048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8" descr="Lotus Notes 中文版系統介面畫面，系統每日出表，受文部門的部門主管於信箱中收到系統所發送之通知信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5"/>
          <p:cNvSpPr/>
          <p:nvPr/>
        </p:nvSpPr>
        <p:spPr>
          <a:xfrm>
            <a:off x="3924360" y="76320"/>
            <a:ext cx="4838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系統發送信件至部門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2286000" y="3200400"/>
            <a:ext cx="6248520" cy="304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6248520" y="3200400"/>
            <a:ext cx="2590560" cy="1676520"/>
          </a:xfrm>
          <a:prstGeom prst="wedgeRoundRectCallout">
            <a:avLst>
              <a:gd name="adj1" fmla="val -89768"/>
              <a:gd name="adj2" fmla="val -4024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每日出表，受文部門的部門主管於信箱中收到系統所發送之通知信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Lotus Notes 中文版介面顯示部門主管開啟帳項異常催告單的畫面。畫面上方標註「交辦」與「自行經辦」按鈕，並以標籤說明其功能：「交辦」為將文件交辦至指定人員；「自行經辦」為將文件的經辦人設為自己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5760" y="341280"/>
            <a:ext cx="8232480" cy="61754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開啟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04920" y="2133720"/>
            <a:ext cx="1981080" cy="1143000"/>
          </a:xfrm>
          <a:prstGeom prst="wedgeRoundRectCallout">
            <a:avLst>
              <a:gd name="adj1" fmla="val -5129"/>
              <a:gd name="adj2" fmla="val -816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447920" y="1447920"/>
            <a:ext cx="99036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62320" y="2057400"/>
            <a:ext cx="1981080" cy="1143000"/>
          </a:xfrm>
          <a:prstGeom prst="wedgeRoundRectCallout">
            <a:avLst>
              <a:gd name="adj1" fmla="val -50560"/>
              <a:gd name="adj2" fmla="val -9500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Lotus Notes 中文版介面顯示部門主管交辦帳項異常催告單的操作畫面。使用者點選左上角的「交辦」按鈕後，系統跳出提示訊息視窗，詢問「是否確定要交辦？」並提供「是(Y)」與「否(N)」兩個按鈕供選擇。表單中顯示借款人資訊、會計科目、立案金額與逾期狀況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1828800" y="838080"/>
            <a:ext cx="1981080" cy="609840"/>
          </a:xfrm>
          <a:prstGeom prst="wedgeRoundRectCallout">
            <a:avLst>
              <a:gd name="adj1" fmla="val -72754"/>
              <a:gd name="adj2" fmla="val 7552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交辦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867280" y="2362320"/>
            <a:ext cx="1981440" cy="838080"/>
          </a:xfrm>
          <a:prstGeom prst="wedgeRoundRectCallout">
            <a:avLst>
              <a:gd name="adj1" fmla="val -53527"/>
              <a:gd name="adj2" fmla="val 10303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系統出現提示訊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Lotus Notes 中文版介面顯示部門主管交辦帳項異常催告單的操作畫面。系統跳出提示訊息視窗，「請選擇經辦人員」視窗，選定欲交辦之對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交辦選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733920" y="2286000"/>
            <a:ext cx="160020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867280" y="2057400"/>
            <a:ext cx="2210040" cy="1066680"/>
          </a:xfrm>
          <a:prstGeom prst="wedgeRoundRectCallout">
            <a:avLst>
              <a:gd name="adj1" fmla="val -75217"/>
              <a:gd name="adj2" fmla="val -1116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「公司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+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部門代號」後，按下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tab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5638680" y="3657600"/>
            <a:ext cx="1981440" cy="1752480"/>
          </a:xfrm>
          <a:prstGeom prst="wedgeRoundRectCallout">
            <a:avLst>
              <a:gd name="adj1" fmla="val -81171"/>
              <a:gd name="adj2" fmla="val -5081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下方會出現該部門中所有人員，選定欲交辦之對象後按下「確定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Lotus Notes 中文版介面顯示部門主管交辦帳項異常催告單的操作畫面。系統跳出提示訊息視窗，「郵件傳送訊息」視窗，帳項異常催告單已交辦給下位人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6T03:09:02Z</dcterms:created>
  <dc:creator>Luke</dc:creator>
  <dc:description/>
  <dc:language>en-US</dc:language>
  <cp:lastModifiedBy>UF230Z/林婉蓁</cp:lastModifiedBy>
  <dcterms:modified xsi:type="dcterms:W3CDTF">2025-07-04T02:08:19Z</dcterms:modified>
  <cp:revision>116</cp:revision>
  <dc:subject/>
  <dc:title>PowerPoint 簡報</dc:title>
</cp:coreProperties>
</file>