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72D-0F4C-4DD3-92E5-5871D019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F34-0323-42B6-AFBA-231E38FF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DB1-570F-4C91-8915-BBC7BA4E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6C9-7702-4A07-B833-4DCF6CF0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8703-EF03-47C6-9E44-DCC4427F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CDDE-0869-48A6-8841-B06C7D7A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FE61-58F4-432B-AE9A-1C2B6A88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F68D-72C8-4F19-8A14-7D5FC839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F9E6-7583-4116-AEA0-CC443A35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29DA-7622-4820-A170-E2C32630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07EB-D24A-4308-838F-DAB6C9BC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F64-F65E-47E9-8FF9-CD03E24C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0618-B414-4AB3-92B4-CFA74172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7749-773A-4437-9727-0B3F0F72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C1F2-B40F-4896-B87F-7E5AC807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507D-DFFD-43AD-A3F8-D6D00185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923D-7F20-4FB4-BBBB-2E04F175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D60-D290-45DA-9F29-975CBC87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C65-06B2-4BEF-9B2F-1515CEC8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E74-2552-4696-A36D-1878CD81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2FA-0982-4D06-953D-5B07367D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A84-8BD5-463E-9206-F789CAD4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6E6-4052-4DE7-AB06-D7A0660E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817-4C21-47E9-A0A9-992711C6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AB92-DF44-4FA1-99F3-122151F4DEEE}" type="slidenum">
              <a:rPr b="0" lang="zh-TW" sz="1400" spc="-1" strike="noStrike">
                <a:solidFill>
                  <a:srgbClr val="000000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0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199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0458c"/>
                </a:solidFill>
                <a:latin typeface="Tahoma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125F-0A3F-4BA2-904A-E59ED2625C91}" type="slidenum">
              <a:rPr b="0" lang="zh-TW" sz="1400" spc="-1" strike="noStrike">
                <a:solidFill>
                  <a:srgbClr val="40458c"/>
                </a:solidFill>
                <a:latin typeface="Tahoma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254960" y="246852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辦公室自動化作業—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156360" y="38862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操作說明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546560" y="30510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帳項異常催告單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809880" y="5867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程式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四組  彭慈怡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77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3809880" y="5562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MIS 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應用三組  張志成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7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6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809880" y="5257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制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財務組      陳瀅淑  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533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0" descr="Lotus Notes 中文版介面顯示經辦人員開啟帳項異常催告單的畫面。畫面上方標註「交辦」與「自行經辦」與「退回主管」按鈕，並以標籤說明其功能：「交辦」為將此文件交辦至指定之人員；「自行經辦」為將文件的經辦人設為自己；「退回主管」為將此文件退回上一交辦之主管。下方為借款資料與會計科目明細，包括傳票號碼、立案金額、逾期日等資訊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六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員開啟表單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0" y="2438280"/>
            <a:ext cx="1981080" cy="1143000"/>
          </a:xfrm>
          <a:prstGeom prst="wedgeRoundRectCallout">
            <a:avLst>
              <a:gd name="adj1" fmla="val 10254"/>
              <a:gd name="adj2" fmla="val -10833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將此文件交辦至指定之人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44792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2133720" y="2362320"/>
            <a:ext cx="1981080" cy="1143000"/>
          </a:xfrm>
          <a:prstGeom prst="wedgeRoundRectCallout">
            <a:avLst>
              <a:gd name="adj1" fmla="val -46712"/>
              <a:gd name="adj2" fmla="val -10569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之經辦人設為自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43828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4191120" y="1676520"/>
            <a:ext cx="2209680" cy="1371600"/>
          </a:xfrm>
          <a:prstGeom prst="wedgeRoundRectCallout">
            <a:avLst>
              <a:gd name="adj1" fmla="val -88435"/>
              <a:gd name="adj2" fmla="val -5312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退回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退回上一交辦之主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1" descr="Lotus Notes 中文版介面顯示經辦人員查詢文件實際流程的畫面。下方此表單已進行之核簽流程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七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查詢文件實際流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990720" y="5257800"/>
            <a:ext cx="7010280" cy="68580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5410080" y="3124080"/>
            <a:ext cx="1981440" cy="1143000"/>
          </a:xfrm>
          <a:prstGeom prst="wedgeRoundRectCallout">
            <a:avLst>
              <a:gd name="adj1" fmla="val -57532"/>
              <a:gd name="adj2" fmla="val 15569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由此可參閱此表單已進行之流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1" descr="Lotus Notes 中文版介面顯示交辦人員處理帳項異常催告單的操作畫面。使用者可點選左上角的「自行經辦」按鈕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2843280" y="76320"/>
            <a:ext cx="5919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八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自行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1447920" y="1447920"/>
            <a:ext cx="9144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2133720" y="2362320"/>
            <a:ext cx="1981080" cy="761760"/>
          </a:xfrm>
          <a:prstGeom prst="wedgeRoundRectCallout">
            <a:avLst>
              <a:gd name="adj1" fmla="val -46712"/>
              <a:gd name="adj2" fmla="val -133541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自行經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1" descr="Lotus Notes 中文版介面顯示交辦人員處理帳項異常催告單的操作畫面。使用者可點選左上角的「取消自行經辦」按鈕，可回到原先選擇「交辦/自行經辦」狀態，中間的「延期日」按鈕，可輸入欲展延的延期日，下方的「原因說明及處理對策」按鈕，請輸入原因說明展延緣由及處理對策。"/>
          <p:cNvPicPr/>
          <p:nvPr/>
        </p:nvPicPr>
        <p:blipFill>
          <a:blip r:embed="rId1"/>
          <a:stretch/>
        </p:blipFill>
        <p:spPr>
          <a:xfrm>
            <a:off x="457200" y="380880"/>
            <a:ext cx="8231040" cy="6174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2819520" y="76320"/>
            <a:ext cx="59436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九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人自行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685800" y="1447920"/>
            <a:ext cx="129528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914400" y="1981080"/>
            <a:ext cx="2362320" cy="1447920"/>
          </a:xfrm>
          <a:prstGeom prst="wedgeRoundRectCallout">
            <a:avLst>
              <a:gd name="adj1" fmla="val -18212"/>
              <a:gd name="adj2" fmla="val -78180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取消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回到原先選擇「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/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」狀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6553080" y="4572000"/>
            <a:ext cx="1295640" cy="30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5105520" y="3429000"/>
            <a:ext cx="2133360" cy="838080"/>
          </a:xfrm>
          <a:prstGeom prst="wedgeRoundRectCallout">
            <a:avLst>
              <a:gd name="adj1" fmla="val 45907"/>
              <a:gd name="adj2" fmla="val 8882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欲展延之延期日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2819520" y="5562720"/>
            <a:ext cx="5257800" cy="6094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1219320" y="4495680"/>
            <a:ext cx="3047760" cy="838440"/>
          </a:xfrm>
          <a:prstGeom prst="wedgeRoundRectCallout">
            <a:avLst>
              <a:gd name="adj1" fmla="val 51564"/>
              <a:gd name="adj2" fmla="val 10416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原因說明及處理對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Lotus Notes 中文版介面顯示經辦人員完成帳項異常催告單呈核的操作畫面。系統跳出提示訊息視窗，經辦完成之後點選「呈核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2916360" y="76320"/>
            <a:ext cx="5846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經辦完後進行呈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1981080" y="1447920"/>
            <a:ext cx="76212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1219320" y="2362320"/>
            <a:ext cx="2361960" cy="1447560"/>
          </a:xfrm>
          <a:prstGeom prst="wedgeRoundRectCallout">
            <a:avLst>
              <a:gd name="adj1" fmla="val -2958"/>
              <a:gd name="adj2" fmla="val -8991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經辦完成之後點選「呈核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7" descr="Lotus Notes 中文版介面顯示經辦人員完成帳項異常催告單呈核的操作畫面。點選「呈核」後，系統跳出提示訊息視窗，憑單已傳送至下位核簽者，之後點選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1040" cy="6174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一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文件傳至交辦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5562720" y="3733920"/>
            <a:ext cx="2361960" cy="1447560"/>
          </a:xfrm>
          <a:prstGeom prst="wedgeRoundRectCallout">
            <a:avLst>
              <a:gd name="adj1" fmla="val -65925"/>
              <a:gd name="adj2" fmla="val -4561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「呈核」後，本文件傳回原先交辦的主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7" descr="Lotus Notes 中文版介面顯示經辦人員帳項異常催告單呈核的操作畫面。第一位交辦主管即部門主管可點選「選擇核簽流程」，選擇可用之核簽流程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二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219320" y="2057400"/>
            <a:ext cx="3276360" cy="1227240"/>
          </a:xfrm>
          <a:prstGeom prst="wedgeRoundRectCallout">
            <a:avLst>
              <a:gd name="adj1" fmla="val -47962"/>
              <a:gd name="adj2" fmla="val -67208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一位交辦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(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即部門主管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)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點選「選擇核簽流程」以選擇一可用之核簽流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914400" y="1447920"/>
            <a:ext cx="106668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Lotus Notes 中文版介面顯示經辦人員帳項異常催告單呈核的操作畫面。選擇交辦主管完成後，點選「核准」將表單呈核給主管核簽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3276720" y="76320"/>
            <a:ext cx="54864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三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828800" y="2286000"/>
            <a:ext cx="2590920" cy="838080"/>
          </a:xfrm>
          <a:prstGeom prst="wedgeRoundRectCallout">
            <a:avLst>
              <a:gd name="adj1" fmla="val -32722"/>
              <a:gd name="adj2" fmla="val -113259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直接點選「核准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981080" y="1447920"/>
            <a:ext cx="76212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7" descr="Lotus Notes 中文版介面顯示經辦人員帳項異常催告單呈核的操作畫面。核決權限凡金額超過10萬元或展延天數逾15天或展延第二次以上，須送經理級主管核決，系統跳出提示訊息「核簽完畢，憑單已傳送至經辦」視窗，表示帳項異常催告單已核簽完畢，按下「確定」即完成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3059280" y="76320"/>
            <a:ext cx="57038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四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核簽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762120" y="4267080"/>
            <a:ext cx="4114800" cy="2133720"/>
          </a:xfrm>
          <a:prstGeom prst="wedgeRoundRectCallout">
            <a:avLst>
              <a:gd name="adj1" fmla="val 46722"/>
              <a:gd name="adj2" fmla="val -5833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核決權限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金額超過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0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萬元 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2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展延天數逾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15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天 或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3.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展延第二次以上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須送</a:t>
            </a:r>
            <a:r>
              <a:rPr b="1" lang="zh-TW" sz="20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主管核決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Lotus Notes 中文版介面檢視已結案帳項異常催告單的操作畫面。可由左方「部門別記錄統計」中，查詢到已結案之案件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4788000" y="76320"/>
            <a:ext cx="397512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十五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檢視已結案文件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3276720" y="3657600"/>
            <a:ext cx="2819160" cy="1371600"/>
          </a:xfrm>
          <a:prstGeom prst="wedgeRoundRectCallout">
            <a:avLst>
              <a:gd name="adj1" fmla="val -84120"/>
              <a:gd name="adj2" fmla="val -4004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由「部門別記錄統計」中，查得相關已結案之案件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1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範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Picture 13" descr="Lotus Notes 中文版系統介面畫面，顯示帳項異常催告單設定，包括催告層級通知對象、結案條件與說明，供財務或管理部門追蹤處理帳款。"/>
          <p:cNvPicPr/>
          <p:nvPr/>
        </p:nvPicPr>
        <p:blipFill>
          <a:blip r:embed="rId1"/>
          <a:stretch/>
        </p:blipFill>
        <p:spPr>
          <a:xfrm>
            <a:off x="609480" y="68580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催辦管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685800" y="21337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一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二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三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四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                            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公司總經理室專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第五次逾到期日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-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提示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辦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廠處長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經理級主管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                             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公司總經理室專人</a:t>
            </a:r>
            <a:r>
              <a:rPr b="0" lang="zh-TW" sz="24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fb0f0f"/>
                </a:solidFill>
                <a:latin typeface="Times New Roman"/>
                <a:ea typeface="新細明體"/>
              </a:rPr>
              <a:t>總管理處總經理室專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30" name="Object 4"/>
          <p:cNvGraphicFramePr/>
          <p:nvPr/>
        </p:nvGraphicFramePr>
        <p:xfrm>
          <a:off x="3657600" y="1143000"/>
          <a:ext cx="464832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4" descr="「Lotus Notes 中文版系統介面畫面，顯示帳項異常催告單」催辦管制，包括收文文號、經辦部門、催告次數，催告次數說明如下方文字說明。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143000"/>
                    <a:ext cx="4648320" cy="863640"/>
                  </a:xfrm>
                  <a:prstGeom prst="rect">
                    <a:avLst/>
                  </a:prstGeom>
                  <a:ln w="9360">
                    <a:solidFill>
                      <a:srgbClr val="40458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2" name="Oval 5"/>
          <p:cNvSpPr/>
          <p:nvPr/>
        </p:nvSpPr>
        <p:spPr>
          <a:xfrm>
            <a:off x="3733920" y="1523880"/>
            <a:ext cx="289548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219320" y="2666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報告完畢</a:t>
            </a:r>
            <a:endParaRPr b="0" lang="en-US" sz="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範圍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1523880"/>
          <a:ext cx="8686800" cy="3978360"/>
        </p:xfrm>
        <a:graphic>
          <a:graphicData uri="http://schemas.openxmlformats.org/drawingml/2006/table">
            <a:tbl>
              <a:tblPr/>
              <a:tblGrid>
                <a:gridCol w="2481120"/>
                <a:gridCol w="1573200"/>
                <a:gridCol w="46324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郵件種類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對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提示頻率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文件處理逾期催辦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經辦人及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延遲交辦提示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交辦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核簽延遲提示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經辦人及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第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提示第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每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個工作日再提示一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800000"/>
                          </a:solidFill>
                          <a:latin typeface="標楷體"/>
                          <a:ea typeface="標楷體"/>
                        </a:rPr>
                        <a:t>累計第三次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再發送給主管之上一級主管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Rectangle 33"/>
          <p:cNvSpPr/>
          <p:nvPr/>
        </p:nvSpPr>
        <p:spPr>
          <a:xfrm>
            <a:off x="1031760" y="6858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標楷體"/>
                <a:ea typeface="標楷體"/>
              </a:rPr>
              <a:t>4.</a:t>
            </a:r>
            <a:r>
              <a:rPr b="0" lang="zh-TW" sz="2400" spc="-1" strike="noStrike">
                <a:solidFill>
                  <a:srgbClr val="800000"/>
                </a:solidFill>
                <a:latin typeface="標楷體"/>
                <a:ea typeface="標楷體"/>
              </a:rPr>
              <a:t>逾期催辦通知說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1"/>
          <p:cNvSpPr/>
          <p:nvPr/>
        </p:nvSpPr>
        <p:spPr>
          <a:xfrm>
            <a:off x="762120" y="76320"/>
            <a:ext cx="800100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「帳項異常催告單」作業流程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AutoShape 84"/>
          <p:cNvSpPr/>
          <p:nvPr/>
        </p:nvSpPr>
        <p:spPr>
          <a:xfrm>
            <a:off x="380880" y="1676520"/>
            <a:ext cx="914400" cy="76176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M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Line 87"/>
          <p:cNvSpPr/>
          <p:nvPr/>
        </p:nvSpPr>
        <p:spPr>
          <a:xfrm>
            <a:off x="762120" y="2438280"/>
            <a:ext cx="0" cy="5335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Line 88"/>
          <p:cNvSpPr/>
          <p:nvPr/>
        </p:nvSpPr>
        <p:spPr>
          <a:xfrm>
            <a:off x="762120" y="2971800"/>
            <a:ext cx="12189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AutoShape 120"/>
          <p:cNvSpPr/>
          <p:nvPr/>
        </p:nvSpPr>
        <p:spPr>
          <a:xfrm>
            <a:off x="990720" y="2666880"/>
            <a:ext cx="685800" cy="60984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not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121"/>
          <p:cNvSpPr/>
          <p:nvPr/>
        </p:nvSpPr>
        <p:spPr>
          <a:xfrm>
            <a:off x="169200" y="2666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標楷體"/>
              </a:rPr>
              <a:t>每日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Line 130"/>
          <p:cNvSpPr/>
          <p:nvPr/>
        </p:nvSpPr>
        <p:spPr>
          <a:xfrm>
            <a:off x="8583480" y="5726160"/>
            <a:ext cx="0" cy="488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Line 129"/>
          <p:cNvSpPr/>
          <p:nvPr/>
        </p:nvSpPr>
        <p:spPr>
          <a:xfrm>
            <a:off x="6413400" y="5446800"/>
            <a:ext cx="4906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AutoShape 95"/>
          <p:cNvSpPr/>
          <p:nvPr/>
        </p:nvSpPr>
        <p:spPr>
          <a:xfrm>
            <a:off x="8164440" y="5235480"/>
            <a:ext cx="979560" cy="622440"/>
          </a:xfrm>
          <a:prstGeom prst="flowChartOnlineStorag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結案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AutoShape 100"/>
          <p:cNvSpPr/>
          <p:nvPr/>
        </p:nvSpPr>
        <p:spPr>
          <a:xfrm>
            <a:off x="3124080" y="3346560"/>
            <a:ext cx="1119240" cy="69984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部門主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AutoShape 102"/>
          <p:cNvSpPr/>
          <p:nvPr/>
        </p:nvSpPr>
        <p:spPr>
          <a:xfrm>
            <a:off x="4943520" y="3346560"/>
            <a:ext cx="1120680" cy="69984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Line 105"/>
          <p:cNvSpPr/>
          <p:nvPr/>
        </p:nvSpPr>
        <p:spPr>
          <a:xfrm>
            <a:off x="4243320" y="3695760"/>
            <a:ext cx="700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Rectangle 106"/>
          <p:cNvSpPr/>
          <p:nvPr/>
        </p:nvSpPr>
        <p:spPr>
          <a:xfrm>
            <a:off x="4314960" y="3346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交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Line 107"/>
          <p:cNvSpPr/>
          <p:nvPr/>
        </p:nvSpPr>
        <p:spPr>
          <a:xfrm>
            <a:off x="5433840" y="4046400"/>
            <a:ext cx="0" cy="2793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Line 108"/>
          <p:cNvSpPr/>
          <p:nvPr/>
        </p:nvSpPr>
        <p:spPr>
          <a:xfrm flipH="1">
            <a:off x="3823920" y="4325760"/>
            <a:ext cx="1609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Line 109"/>
          <p:cNvSpPr/>
          <p:nvPr/>
        </p:nvSpPr>
        <p:spPr>
          <a:xfrm flipV="1">
            <a:off x="3824280" y="4046400"/>
            <a:ext cx="0" cy="279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Text Box 110"/>
          <p:cNvSpPr/>
          <p:nvPr/>
        </p:nvSpPr>
        <p:spPr>
          <a:xfrm>
            <a:off x="4407840" y="4002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呈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AutoShape 111"/>
          <p:cNvSpPr/>
          <p:nvPr/>
        </p:nvSpPr>
        <p:spPr>
          <a:xfrm>
            <a:off x="3263760" y="4535640"/>
            <a:ext cx="630360" cy="63000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Line 112"/>
          <p:cNvSpPr/>
          <p:nvPr/>
        </p:nvSpPr>
        <p:spPr>
          <a:xfrm>
            <a:off x="3894120" y="4886280"/>
            <a:ext cx="1749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Line 113"/>
          <p:cNvSpPr/>
          <p:nvPr/>
        </p:nvSpPr>
        <p:spPr>
          <a:xfrm flipV="1">
            <a:off x="5643720" y="4046040"/>
            <a:ext cx="0" cy="839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Line 114"/>
          <p:cNvSpPr/>
          <p:nvPr/>
        </p:nvSpPr>
        <p:spPr>
          <a:xfrm>
            <a:off x="3544920" y="4046400"/>
            <a:ext cx="0" cy="489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Line 115"/>
          <p:cNvSpPr/>
          <p:nvPr/>
        </p:nvSpPr>
        <p:spPr>
          <a:xfrm>
            <a:off x="3544920" y="5165640"/>
            <a:ext cx="0" cy="281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Line 116"/>
          <p:cNvSpPr/>
          <p:nvPr/>
        </p:nvSpPr>
        <p:spPr>
          <a:xfrm>
            <a:off x="3544920" y="5446800"/>
            <a:ext cx="1609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Text Box 118"/>
          <p:cNvSpPr/>
          <p:nvPr/>
        </p:nvSpPr>
        <p:spPr>
          <a:xfrm>
            <a:off x="5036400" y="4576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退回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AutoShape 122"/>
          <p:cNvSpPr/>
          <p:nvPr/>
        </p:nvSpPr>
        <p:spPr>
          <a:xfrm>
            <a:off x="5154480" y="5095800"/>
            <a:ext cx="1328760" cy="7002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其他核簽主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Line 123"/>
          <p:cNvSpPr/>
          <p:nvPr/>
        </p:nvSpPr>
        <p:spPr>
          <a:xfrm>
            <a:off x="7534440" y="5446800"/>
            <a:ext cx="5601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Text Box 124"/>
          <p:cNvSpPr/>
          <p:nvPr/>
        </p:nvSpPr>
        <p:spPr>
          <a:xfrm>
            <a:off x="7697160" y="5122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准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Line 125"/>
          <p:cNvSpPr/>
          <p:nvPr/>
        </p:nvSpPr>
        <p:spPr>
          <a:xfrm flipV="1">
            <a:off x="7253280" y="3766680"/>
            <a:ext cx="0" cy="139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Line 126"/>
          <p:cNvSpPr/>
          <p:nvPr/>
        </p:nvSpPr>
        <p:spPr>
          <a:xfrm flipH="1">
            <a:off x="6063840" y="3767040"/>
            <a:ext cx="11890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Text Box 127"/>
          <p:cNvSpPr/>
          <p:nvPr/>
        </p:nvSpPr>
        <p:spPr>
          <a:xfrm>
            <a:off x="7341480" y="4325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退回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AutoShape 128"/>
          <p:cNvSpPr/>
          <p:nvPr/>
        </p:nvSpPr>
        <p:spPr>
          <a:xfrm>
            <a:off x="6904080" y="5165640"/>
            <a:ext cx="63036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AutoShape 131"/>
          <p:cNvSpPr/>
          <p:nvPr/>
        </p:nvSpPr>
        <p:spPr>
          <a:xfrm>
            <a:off x="8234280" y="6005520"/>
            <a:ext cx="839880" cy="700200"/>
          </a:xfrm>
          <a:prstGeom prst="flowChartMagneticDisk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Mi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AutoShape 133"/>
          <p:cNvSpPr/>
          <p:nvPr/>
        </p:nvSpPr>
        <p:spPr>
          <a:xfrm>
            <a:off x="2971800" y="1523880"/>
            <a:ext cx="1120680" cy="700200"/>
          </a:xfrm>
          <a:prstGeom prst="flowChartProcess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AutoShape 134"/>
          <p:cNvSpPr/>
          <p:nvPr/>
        </p:nvSpPr>
        <p:spPr>
          <a:xfrm>
            <a:off x="1981080" y="2666880"/>
            <a:ext cx="114300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有無經辦人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Line 135"/>
          <p:cNvSpPr/>
          <p:nvPr/>
        </p:nvSpPr>
        <p:spPr>
          <a:xfrm flipV="1">
            <a:off x="2743200" y="2286000"/>
            <a:ext cx="41436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Line 136"/>
          <p:cNvSpPr/>
          <p:nvPr/>
        </p:nvSpPr>
        <p:spPr>
          <a:xfrm>
            <a:off x="2590920" y="3276720"/>
            <a:ext cx="53316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Text Box 137"/>
          <p:cNvSpPr/>
          <p:nvPr/>
        </p:nvSpPr>
        <p:spPr>
          <a:xfrm>
            <a:off x="4196880" y="5122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准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Text Box 138"/>
          <p:cNvSpPr/>
          <p:nvPr/>
        </p:nvSpPr>
        <p:spPr>
          <a:xfrm>
            <a:off x="2606400" y="2286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有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Text Box 139"/>
          <p:cNvSpPr/>
          <p:nvPr/>
        </p:nvSpPr>
        <p:spPr>
          <a:xfrm>
            <a:off x="2485800" y="3352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AutoShape 140"/>
          <p:cNvSpPr/>
          <p:nvPr/>
        </p:nvSpPr>
        <p:spPr>
          <a:xfrm>
            <a:off x="3886200" y="2438280"/>
            <a:ext cx="630360" cy="630360"/>
          </a:xfrm>
          <a:prstGeom prst="flowChartDecision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458c"/>
                </a:solidFill>
                <a:latin typeface="Verdana"/>
                <a:ea typeface="新細明體"/>
              </a:rPr>
              <a:t>核簽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Line 141"/>
          <p:cNvSpPr/>
          <p:nvPr/>
        </p:nvSpPr>
        <p:spPr>
          <a:xfrm>
            <a:off x="3733920" y="2286000"/>
            <a:ext cx="38088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Line 144"/>
          <p:cNvSpPr/>
          <p:nvPr/>
        </p:nvSpPr>
        <p:spPr>
          <a:xfrm>
            <a:off x="4191120" y="3048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8" descr="Lotus Notes 中文版系統介面畫面，系統每日出表，受文部門的部門主管於信箱中收到系統所發送之通知信件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5"/>
          <p:cNvSpPr/>
          <p:nvPr/>
        </p:nvSpPr>
        <p:spPr>
          <a:xfrm>
            <a:off x="3924360" y="76320"/>
            <a:ext cx="4838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一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系統發送信件至部門主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2286000" y="3200400"/>
            <a:ext cx="6248520" cy="30492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6248520" y="3200400"/>
            <a:ext cx="2590560" cy="1676520"/>
          </a:xfrm>
          <a:prstGeom prst="wedgeRoundRectCallout">
            <a:avLst>
              <a:gd name="adj1" fmla="val -89768"/>
              <a:gd name="adj2" fmla="val -40245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每日出表，受文部門的部門主管於信箱中收到系統所發送之通知信件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" descr="Lotus Notes 中文版介面顯示部門主管開啟帳項異常催告單的畫面。畫面上方標註「交辦」與「自行經辦」按鈕，並以標籤說明其功能：「交辦」為將文件交辦至指定人員；「自行經辦」為將文件的經辦人設為自己。下方為借款資料與會計科目明細，包括傳票號碼、立案金額、逾期日等資訊。"/>
          <p:cNvPicPr/>
          <p:nvPr/>
        </p:nvPicPr>
        <p:blipFill>
          <a:blip r:embed="rId1"/>
          <a:stretch/>
        </p:blipFill>
        <p:spPr>
          <a:xfrm>
            <a:off x="455760" y="341280"/>
            <a:ext cx="8232480" cy="61754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二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開啟文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04920" y="2133720"/>
            <a:ext cx="1981080" cy="1143000"/>
          </a:xfrm>
          <a:prstGeom prst="wedgeRoundRectCallout">
            <a:avLst>
              <a:gd name="adj1" fmla="val -5129"/>
              <a:gd name="adj2" fmla="val -81666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交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可將此文件交辦至指定之人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1447920" y="1447920"/>
            <a:ext cx="99036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62320" y="2057400"/>
            <a:ext cx="1981080" cy="1143000"/>
          </a:xfrm>
          <a:prstGeom prst="wedgeRoundRectCallout">
            <a:avLst>
              <a:gd name="adj1" fmla="val -50560"/>
              <a:gd name="adj2" fmla="val -95000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自行經辦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: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將此文件之經辦人設為自已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Lotus Notes 中文版介面顯示部門主管交辦帳項異常催告單的操作畫面。使用者點選左上角的「交辦」按鈕後，系統跳出提示訊息視窗，詢問「是否確定要交辦？」並提供「是(Y)」與「否(N)」兩個按鈕供選擇。表單中顯示借款人資訊、會計科目、立案金額與逾期狀況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2916360" y="76320"/>
            <a:ext cx="58467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三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交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685800" y="1447920"/>
            <a:ext cx="685800" cy="3045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1828800" y="838080"/>
            <a:ext cx="1981080" cy="609840"/>
          </a:xfrm>
          <a:prstGeom prst="wedgeRoundRectCallout">
            <a:avLst>
              <a:gd name="adj1" fmla="val -72754"/>
              <a:gd name="adj2" fmla="val 75523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點選「交辦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5867280" y="2362320"/>
            <a:ext cx="1981440" cy="838080"/>
          </a:xfrm>
          <a:prstGeom prst="wedgeRoundRectCallout">
            <a:avLst>
              <a:gd name="adj1" fmla="val -53527"/>
              <a:gd name="adj2" fmla="val 10303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系統出現提示訊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9" descr="Lotus Notes 中文版介面顯示部門主管交辦帳項異常催告單的操作畫面。系統跳出提示訊息視窗，「請選擇經辦人員」視窗，選定欲交辦之對象後按下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四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交辦選單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3733920" y="2286000"/>
            <a:ext cx="1600200" cy="3049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5867280" y="2057400"/>
            <a:ext cx="2210040" cy="1066680"/>
          </a:xfrm>
          <a:prstGeom prst="wedgeRoundRectCallout">
            <a:avLst>
              <a:gd name="adj1" fmla="val -75217"/>
              <a:gd name="adj2" fmla="val -11162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輸入「公司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+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部門代號」後，按下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tab</a:t>
            </a: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5638680" y="3657600"/>
            <a:ext cx="1981440" cy="1752480"/>
          </a:xfrm>
          <a:prstGeom prst="wedgeRoundRectCallout">
            <a:avLst>
              <a:gd name="adj1" fmla="val -81171"/>
              <a:gd name="adj2" fmla="val -50814"/>
              <a:gd name="adj3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458c"/>
                </a:solidFill>
                <a:latin typeface="Times New Roman"/>
                <a:ea typeface="新細明體"/>
              </a:rPr>
              <a:t>下方會出現該部門中所有人員，選定欲交辦之對象後按下「確定」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Lotus Notes 中文版介面顯示部門主管交辦帳項異常催告單的操作畫面。系統跳出提示訊息視窗，「郵件傳送訊息」視窗，帳項異常催告單已交辦給下位人員後按下「確定」。"/>
          <p:cNvPicPr/>
          <p:nvPr/>
        </p:nvPicPr>
        <p:blipFill>
          <a:blip r:embed="rId1"/>
          <a:stretch/>
        </p:blipFill>
        <p:spPr>
          <a:xfrm>
            <a:off x="457200" y="380880"/>
            <a:ext cx="8234280" cy="61754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2987640" y="76320"/>
            <a:ext cx="5775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流程五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:</a:t>
            </a:r>
            <a:r>
              <a:rPr b="0" lang="zh-TW" sz="2400" spc="-1" strike="noStrike">
                <a:solidFill>
                  <a:srgbClr val="40458c"/>
                </a:solidFill>
                <a:latin typeface="標楷體"/>
                <a:ea typeface="標楷體"/>
              </a:rPr>
              <a:t>部門主管交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6T03:09:02Z</dcterms:created>
  <dc:creator>Luke</dc:creator>
  <dc:description/>
  <dc:language>en-US</dc:language>
  <cp:lastModifiedBy>UF230Z/林婉蓁</cp:lastModifiedBy>
  <dcterms:modified xsi:type="dcterms:W3CDTF">2025-07-04T02:08:19Z</dcterms:modified>
  <cp:revision>116</cp:revision>
  <dc:subject/>
  <dc:title>PowerPoint 簡報</dc:title>
</cp:coreProperties>
</file>